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41C-6023-42B6-9871-91BA30F8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2FA-1FFC-4E6E-8280-A5D2BA1C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858-5F2D-4D5C-B4C7-874F20AB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3CF-1895-45FC-83A4-66779AB5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197-C399-45AD-9AE3-68CB10D0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727-AEB7-458D-834F-7594AC5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81D-1941-42B5-B497-82C4C02B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C49-EAEE-4766-9736-D4D0FC27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9C5-EC7B-469D-A7DD-2A229445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025-6B45-456E-931B-EC0E0AE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E58-8523-4538-AC2E-408C4226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3FD-BB47-4EA0-8048-11162469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0C2D-7383-4411-9CE2-26ED64B6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lapeño Bage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 &amp; 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4572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ll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we’v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m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You’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267080" y="2057400"/>
            <a:ext cx="4419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8. I’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9. it’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0. we’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1. can’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4572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5. is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6. did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7. you’ll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114800" y="228600"/>
            <a:ext cx="4800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2. they’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halkboard"/>
                <a:ea typeface="Chalkboard"/>
              </a:rPr>
              <a:t>13. wouldn’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lapeño Bagel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’m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5. did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t’s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isn’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halkboar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can’t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Chalkboard"/>
                <a:ea typeface="Chalkboard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0:46:15Z</dcterms:created>
  <dc:creator>Kathryn.Cobb</dc:creator>
  <dc:description/>
  <dc:language>en-US</dc:language>
  <cp:lastModifiedBy>Kathryn Cobb</cp:lastModifiedBy>
  <cp:lastPrinted>2009-03-20T11:03:12Z</cp:lastPrinted>
  <dcterms:modified xsi:type="dcterms:W3CDTF">2009-03-20T11:03:14Z</dcterms:modified>
  <cp:revision>5</cp:revision>
  <dc:subject/>
  <dc:title>Brothers &amp; Sisters Group A </dc:title>
</cp:coreProperties>
</file>